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3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jpeg" ContentType="image/jpeg"/>
  <Override PartName="/ppt/media/image9.gif" ContentType="image/gi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FB26-C887-43F2-87A2-62632BBCE7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1709-9F8D-4F2E-B3C0-B33290352F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EFB9-5E76-4E48-A0B2-4723688812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2644-A8E1-4EAD-85E0-FA03AC2B0A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C915-791E-4247-98AA-8DEA935A51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C028-3A00-437F-8184-2BE1095D67C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C7CA-C30B-4779-A1E1-EEA3B0A72E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8A3A-27FB-4C14-A0E6-2E24B3B7E7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0A5F-9EDC-4C2A-8A85-FFBE0B2AB3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E46A-9FAC-46B8-A077-E1499B5E63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CEFE-F1F2-45C6-B001-BA7447BA7A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9C6B-3CA0-48FE-AE48-121592A7D8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EEFE-9C4B-40F2-BFB5-9961E23B67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BA89-8375-4594-B0C0-A038C17514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586E-06F8-40F8-8F6F-638F0B7B4A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F68A-893E-4779-A301-5B9AEE15B4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1CB7-3CBC-42C6-ACB9-785AB8E011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1B59-F6D6-4692-BE8B-A127B9E2B12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B0B9-D501-44B0-8352-C4D513897F8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AB72-B409-4538-A38C-5DDBAA0957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07C3-840C-4561-B152-A60B6ADC6B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6B43-1FDD-456E-AA50-3DB9D5E379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6C57-79CB-47C2-8CC9-D3847722CF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28AB-FF34-4D4F-8D05-C1AE927483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5230-A322-4D0F-935E-9FA287CB20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11D5-B0CF-4B8E-B7FC-58884A0039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0D71-6856-4CFD-A4C6-887C6DE148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BDF0-51F7-481F-8700-144972E223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4572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43000" y="4213440"/>
            <a:ext cx="4572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21344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485880" y="421344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89200" y="190512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35040" y="190512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43000" y="421344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89200" y="421344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235040" y="421344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680" y="91440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43000" y="421344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485880" y="421344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213440"/>
            <a:ext cx="4572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4572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43000" y="4213440"/>
            <a:ext cx="4572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3000" y="421344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485880" y="421344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89200" y="190512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35040" y="190512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43000" y="421344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89200" y="421344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235040" y="421344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91440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43000" y="421344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85880" y="421344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3000" y="4213440"/>
            <a:ext cx="4572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430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396720"/>
            <a:ext cx="6476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cc00"/>
                </a:solidFill>
                <a:latin typeface="Comic Sans MS"/>
              </a:rPr>
              <a:t>What Are Mutations?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4952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anges in the 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nucleotide sequenc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f DNA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 occur in 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somatic cell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aren’t passed to offspring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 occur in 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gamete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eggs &amp; sperm) and be passed to offspr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Duplic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520" y="1294920"/>
            <a:ext cx="4496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ccurs when a gen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equence is repeated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388620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Transloc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3716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volv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wo chromosomes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at aren’t homologou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ar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of one chromosome i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ransferred to another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chromosom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Transloc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109" name="Picture 2" descr="http://dwb.unl.edu/Teacher/NSF/C08/C08Links/library.thinkquest.org/18258/media/translocation.gif"/>
          <p:cNvPicPr/>
          <p:nvPr/>
        </p:nvPicPr>
        <p:blipFill>
          <a:blip r:embed="rId1"/>
          <a:stretch/>
        </p:blipFill>
        <p:spPr>
          <a:xfrm>
            <a:off x="762120" y="1600200"/>
            <a:ext cx="42084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5410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Nondisjunc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16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Failur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of chromosom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o separat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during meiosi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uses gamete to hav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oo many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 too few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romosom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sorders: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76080" indent="-259920">
              <a:spcBef>
                <a:spcPts val="700"/>
              </a:spcBef>
              <a:buClr>
                <a:srgbClr val="0070c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Syndro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ree 2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romoso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70c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Turner Syndrom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ingle X chromoso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70c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Klinefelter’s Syndrom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XY chromoso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www.uic.edu/classes/bios/bios100/lectf03am/nondisjunc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hromosome mutations animation"/>
          <p:cNvPicPr/>
          <p:nvPr/>
        </p:nvPicPr>
        <p:blipFill>
          <a:blip r:embed="rId1"/>
          <a:stretch/>
        </p:blipFill>
        <p:spPr>
          <a:xfrm>
            <a:off x="457200" y="2362320"/>
            <a:ext cx="8161200" cy="1942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Chromosome Mutation Anim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Gene Mutation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160" y="159984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ange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ucleotide sequence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a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gene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y only involve a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single nucleotide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y be due to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opying error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emical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virus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etc.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Types of Gene Mutation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430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clude: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Point Mut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Substitu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Inser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Dele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Frameshif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Point Mut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160" y="1905120"/>
            <a:ext cx="5181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ange of a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ingl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nucleotide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cludes the deletion, insertion, or substitution of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N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nucleotide in a gene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Are Mutations Helpful or Harmful?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utations happen 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regularl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most all mutations are 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neutral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hemicals &amp; U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radiation cause mutatio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ny mutations are 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repair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y enzyme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00"/>
                </a:solidFill>
                <a:latin typeface="Comic Sans MS"/>
              </a:rPr>
              <a:t>No change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15880" y="1546200"/>
            <a:ext cx="40384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ormal ge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TCTCCTCACGC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GAGGAGUGCGGU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9933"/>
                </a:solidFill>
                <a:latin typeface="Comic Sans MS"/>
              </a:rPr>
              <a:t>Cod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o-Glu-Glu-Cys-G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6600"/>
                </a:solidFill>
                <a:latin typeface="Comic Sans MS"/>
              </a:rPr>
              <a:t>Amino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48320" y="1600200"/>
            <a:ext cx="4127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ubstitution mu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TCT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TCACGCC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GA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AGUGCG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o-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Glu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Glu-Cys-G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5003280" y="3286080"/>
            <a:ext cx="3342960" cy="171000"/>
            <a:chOff x="5003280" y="3286080"/>
            <a:chExt cx="3342960" cy="171000"/>
          </a:xfrm>
        </p:grpSpPr>
        <p:sp>
          <p:nvSpPr>
            <p:cNvPr id="126" name="AutoShape 6"/>
            <p:cNvSpPr/>
            <p:nvPr/>
          </p:nvSpPr>
          <p:spPr>
            <a:xfrm rot="5400000">
              <a:off x="5237280" y="306864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AutoShape 7"/>
            <p:cNvSpPr/>
            <p:nvPr/>
          </p:nvSpPr>
          <p:spPr>
            <a:xfrm rot="5400000">
              <a:off x="5923080" y="306360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AutoShape 8"/>
            <p:cNvSpPr/>
            <p:nvPr/>
          </p:nvSpPr>
          <p:spPr>
            <a:xfrm rot="5400000">
              <a:off x="6582240" y="306000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AutoShape 9"/>
            <p:cNvSpPr/>
            <p:nvPr/>
          </p:nvSpPr>
          <p:spPr>
            <a:xfrm rot="5400000">
              <a:off x="7269840" y="305496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AutoShape 10"/>
            <p:cNvSpPr/>
            <p:nvPr/>
          </p:nvSpPr>
          <p:spPr>
            <a:xfrm rot="5400000">
              <a:off x="7957800" y="305172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1" name="Group 11"/>
          <p:cNvGrpSpPr/>
          <p:nvPr/>
        </p:nvGrpSpPr>
        <p:grpSpPr>
          <a:xfrm>
            <a:off x="867960" y="3249720"/>
            <a:ext cx="3342960" cy="171000"/>
            <a:chOff x="867960" y="3249720"/>
            <a:chExt cx="3342960" cy="171000"/>
          </a:xfrm>
        </p:grpSpPr>
        <p:sp>
          <p:nvSpPr>
            <p:cNvPr id="132" name="AutoShape 12"/>
            <p:cNvSpPr/>
            <p:nvPr/>
          </p:nvSpPr>
          <p:spPr>
            <a:xfrm rot="5400000">
              <a:off x="1101960" y="303228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 rot="5400000">
              <a:off x="1787760" y="302724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 rot="5400000">
              <a:off x="2446920" y="302364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AutoShape 15"/>
            <p:cNvSpPr/>
            <p:nvPr/>
          </p:nvSpPr>
          <p:spPr>
            <a:xfrm rot="5400000">
              <a:off x="3134520" y="301860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AutoShape 16"/>
            <p:cNvSpPr/>
            <p:nvPr/>
          </p:nvSpPr>
          <p:spPr>
            <a:xfrm rot="5400000">
              <a:off x="3822480" y="301536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00"/>
                </a:solidFill>
                <a:latin typeface="Comic Sans MS"/>
              </a:rPr>
              <a:t>Disaster!!!!!!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515880" y="1546200"/>
            <a:ext cx="40384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Normal ge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TCTCCTCACGC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GAGGAGUGCGGU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9933"/>
                </a:solidFill>
                <a:latin typeface="Comic Sans MS"/>
              </a:rPr>
              <a:t>Cod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o-Glu-Glu-Cys-G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6600"/>
                </a:solidFill>
                <a:latin typeface="Comic Sans MS"/>
              </a:rPr>
              <a:t>Amino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648320" y="1600200"/>
            <a:ext cx="4127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Substitution m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TCTCCTCAC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GAAGAGUG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o-Glu-Glu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" name="Group 5"/>
          <p:cNvGrpSpPr/>
          <p:nvPr/>
        </p:nvGrpSpPr>
        <p:grpSpPr>
          <a:xfrm>
            <a:off x="5003280" y="3286080"/>
            <a:ext cx="3342960" cy="171000"/>
            <a:chOff x="5003280" y="3286080"/>
            <a:chExt cx="3342960" cy="171000"/>
          </a:xfrm>
        </p:grpSpPr>
        <p:sp>
          <p:nvSpPr>
            <p:cNvPr id="141" name="AutoShape 6"/>
            <p:cNvSpPr/>
            <p:nvPr/>
          </p:nvSpPr>
          <p:spPr>
            <a:xfrm rot="5400000">
              <a:off x="5237280" y="306864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 rot="5400000">
              <a:off x="5923080" y="306360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AutoShape 8"/>
            <p:cNvSpPr/>
            <p:nvPr/>
          </p:nvSpPr>
          <p:spPr>
            <a:xfrm rot="5400000">
              <a:off x="6582240" y="306000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AutoShape 9"/>
            <p:cNvSpPr/>
            <p:nvPr/>
          </p:nvSpPr>
          <p:spPr>
            <a:xfrm rot="5400000">
              <a:off x="7269840" y="305496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AutoShape 10"/>
            <p:cNvSpPr/>
            <p:nvPr/>
          </p:nvSpPr>
          <p:spPr>
            <a:xfrm rot="5400000">
              <a:off x="7957800" y="305172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6" name="Group 11"/>
          <p:cNvGrpSpPr/>
          <p:nvPr/>
        </p:nvGrpSpPr>
        <p:grpSpPr>
          <a:xfrm>
            <a:off x="834840" y="3193920"/>
            <a:ext cx="3342600" cy="171360"/>
            <a:chOff x="834840" y="3193920"/>
            <a:chExt cx="3342600" cy="171360"/>
          </a:xfrm>
        </p:grpSpPr>
        <p:sp>
          <p:nvSpPr>
            <p:cNvPr id="147" name="AutoShape 12"/>
            <p:cNvSpPr/>
            <p:nvPr/>
          </p:nvSpPr>
          <p:spPr>
            <a:xfrm rot="5400000">
              <a:off x="1068840" y="2976840"/>
              <a:ext cx="154440" cy="622440"/>
            </a:xfrm>
            <a:custGeom>
              <a:avLst/>
              <a:gdLst>
                <a:gd name="textAreaLeft" fmla="*/ 0 w 154440"/>
                <a:gd name="textAreaRight" fmla="*/ 55800 w 15444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AutoShape 13"/>
            <p:cNvSpPr/>
            <p:nvPr/>
          </p:nvSpPr>
          <p:spPr>
            <a:xfrm rot="5400000">
              <a:off x="1754640" y="2971800"/>
              <a:ext cx="154440" cy="622440"/>
            </a:xfrm>
            <a:custGeom>
              <a:avLst/>
              <a:gdLst>
                <a:gd name="textAreaLeft" fmla="*/ 0 w 154440"/>
                <a:gd name="textAreaRight" fmla="*/ 55800 w 15444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AutoShape 14"/>
            <p:cNvSpPr/>
            <p:nvPr/>
          </p:nvSpPr>
          <p:spPr>
            <a:xfrm rot="5400000">
              <a:off x="2413800" y="2968200"/>
              <a:ext cx="154440" cy="622440"/>
            </a:xfrm>
            <a:custGeom>
              <a:avLst/>
              <a:gdLst>
                <a:gd name="textAreaLeft" fmla="*/ 0 w 154440"/>
                <a:gd name="textAreaRight" fmla="*/ 55800 w 15444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AutoShape 15"/>
            <p:cNvSpPr/>
            <p:nvPr/>
          </p:nvSpPr>
          <p:spPr>
            <a:xfrm rot="5400000">
              <a:off x="3101400" y="2963160"/>
              <a:ext cx="154440" cy="622440"/>
            </a:xfrm>
            <a:custGeom>
              <a:avLst/>
              <a:gdLst>
                <a:gd name="textAreaLeft" fmla="*/ 0 w 154440"/>
                <a:gd name="textAreaRight" fmla="*/ 55800 w 15444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AutoShape 16"/>
            <p:cNvSpPr/>
            <p:nvPr/>
          </p:nvSpPr>
          <p:spPr>
            <a:xfrm rot="5400000">
              <a:off x="3789000" y="2959920"/>
              <a:ext cx="154440" cy="622440"/>
            </a:xfrm>
            <a:custGeom>
              <a:avLst/>
              <a:gdLst>
                <a:gd name="textAreaLeft" fmla="*/ 0 w 154440"/>
                <a:gd name="textAreaRight" fmla="*/ 55800 w 15444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2" name="Text Box 4"/>
          <p:cNvSpPr/>
          <p:nvPr/>
        </p:nvSpPr>
        <p:spPr>
          <a:xfrm>
            <a:off x="222120" y="634356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aul Billie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Comic Sans MS"/>
              </a:rPr>
              <a:t>Mutations: Inver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515880" y="2290680"/>
            <a:ext cx="40384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Normal ge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TCTCCTCACGC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GAGGAGUGCGGU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9933"/>
                </a:solidFill>
                <a:latin typeface="Comic Sans MS"/>
              </a:rPr>
              <a:t>Cod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o-Glu-Glu-Cys-G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6600"/>
                </a:solidFill>
                <a:latin typeface="Comic Sans MS"/>
              </a:rPr>
              <a:t>Amino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4648320" y="2279520"/>
            <a:ext cx="412740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Inversion m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TC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TCACGCC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G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GA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AGUGCGG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o-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Gly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Glu-Cys-G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493560" y="1219320"/>
            <a:ext cx="769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ion mutations, also, only affect a small part of the gen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Group 12"/>
          <p:cNvGrpSpPr/>
          <p:nvPr/>
        </p:nvGrpSpPr>
        <p:grpSpPr>
          <a:xfrm>
            <a:off x="835200" y="3071880"/>
            <a:ext cx="3309480" cy="171000"/>
            <a:chOff x="835200" y="3071880"/>
            <a:chExt cx="3309480" cy="171000"/>
          </a:xfrm>
        </p:grpSpPr>
        <p:sp>
          <p:nvSpPr>
            <p:cNvPr id="158" name="AutoShape 13"/>
            <p:cNvSpPr/>
            <p:nvPr/>
          </p:nvSpPr>
          <p:spPr>
            <a:xfrm rot="5400000">
              <a:off x="1066320" y="2857680"/>
              <a:ext cx="154080" cy="61632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5840 h 616320"/>
                <a:gd name="textAreaBottom" fmla="*/ 600480 h 6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AutoShape 14"/>
            <p:cNvSpPr/>
            <p:nvPr/>
          </p:nvSpPr>
          <p:spPr>
            <a:xfrm rot="5400000">
              <a:off x="1745280" y="2852640"/>
              <a:ext cx="154080" cy="61632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5840 h 616320"/>
                <a:gd name="textAreaBottom" fmla="*/ 600480 h 6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AutoShape 15"/>
            <p:cNvSpPr/>
            <p:nvPr/>
          </p:nvSpPr>
          <p:spPr>
            <a:xfrm rot="5400000">
              <a:off x="2397960" y="2849040"/>
              <a:ext cx="154080" cy="61632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5840 h 616320"/>
                <a:gd name="textAreaBottom" fmla="*/ 600480 h 6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AutoShape 16"/>
            <p:cNvSpPr/>
            <p:nvPr/>
          </p:nvSpPr>
          <p:spPr>
            <a:xfrm rot="5400000">
              <a:off x="3078720" y="2844000"/>
              <a:ext cx="154080" cy="61632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5840 h 616320"/>
                <a:gd name="textAreaBottom" fmla="*/ 600480 h 6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AutoShape 17"/>
            <p:cNvSpPr/>
            <p:nvPr/>
          </p:nvSpPr>
          <p:spPr>
            <a:xfrm rot="5400000">
              <a:off x="3759480" y="2840760"/>
              <a:ext cx="154080" cy="61632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5840 h 616320"/>
                <a:gd name="textAreaBottom" fmla="*/ 600480 h 6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18"/>
          <p:cNvGrpSpPr/>
          <p:nvPr/>
        </p:nvGrpSpPr>
        <p:grpSpPr>
          <a:xfrm>
            <a:off x="5052600" y="3040200"/>
            <a:ext cx="3265200" cy="204120"/>
            <a:chOff x="5052600" y="3040200"/>
            <a:chExt cx="3265200" cy="204120"/>
          </a:xfrm>
        </p:grpSpPr>
        <p:sp>
          <p:nvSpPr>
            <p:cNvPr id="164" name="AutoShape 19"/>
            <p:cNvSpPr/>
            <p:nvPr/>
          </p:nvSpPr>
          <p:spPr>
            <a:xfrm rot="5400000">
              <a:off x="5264640" y="2848320"/>
              <a:ext cx="183960" cy="608040"/>
            </a:xfrm>
            <a:custGeom>
              <a:avLst/>
              <a:gdLst>
                <a:gd name="textAreaLeft" fmla="*/ 0 w 183960"/>
                <a:gd name="textAreaRight" fmla="*/ 66240 w 183960"/>
                <a:gd name="textAreaTop" fmla="*/ 15840 h 608040"/>
                <a:gd name="textAreaBottom" fmla="*/ 592200 h 60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AutoShape 20"/>
            <p:cNvSpPr/>
            <p:nvPr/>
          </p:nvSpPr>
          <p:spPr>
            <a:xfrm rot="5400000">
              <a:off x="5934600" y="2842200"/>
              <a:ext cx="183960" cy="608040"/>
            </a:xfrm>
            <a:custGeom>
              <a:avLst/>
              <a:gdLst>
                <a:gd name="textAreaLeft" fmla="*/ 0 w 183960"/>
                <a:gd name="textAreaRight" fmla="*/ 66240 w 183960"/>
                <a:gd name="textAreaTop" fmla="*/ 15840 h 608040"/>
                <a:gd name="textAreaBottom" fmla="*/ 592200 h 60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AutoShape 21"/>
            <p:cNvSpPr/>
            <p:nvPr/>
          </p:nvSpPr>
          <p:spPr>
            <a:xfrm rot="5400000">
              <a:off x="6578280" y="2838240"/>
              <a:ext cx="183960" cy="608040"/>
            </a:xfrm>
            <a:custGeom>
              <a:avLst/>
              <a:gdLst>
                <a:gd name="textAreaLeft" fmla="*/ 0 w 183960"/>
                <a:gd name="textAreaRight" fmla="*/ 66240 w 183960"/>
                <a:gd name="textAreaTop" fmla="*/ 15840 h 608040"/>
                <a:gd name="textAreaBottom" fmla="*/ 592200 h 60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AutoShape 22"/>
            <p:cNvSpPr/>
            <p:nvPr/>
          </p:nvSpPr>
          <p:spPr>
            <a:xfrm rot="5400000">
              <a:off x="7250040" y="2832120"/>
              <a:ext cx="183960" cy="608040"/>
            </a:xfrm>
            <a:custGeom>
              <a:avLst/>
              <a:gdLst>
                <a:gd name="textAreaLeft" fmla="*/ 0 w 183960"/>
                <a:gd name="textAreaRight" fmla="*/ 66240 w 183960"/>
                <a:gd name="textAreaTop" fmla="*/ 15840 h 608040"/>
                <a:gd name="textAreaBottom" fmla="*/ 592200 h 60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AutoShape 23"/>
            <p:cNvSpPr/>
            <p:nvPr/>
          </p:nvSpPr>
          <p:spPr>
            <a:xfrm rot="5400000">
              <a:off x="7921800" y="2828160"/>
              <a:ext cx="183960" cy="608040"/>
            </a:xfrm>
            <a:custGeom>
              <a:avLst/>
              <a:gdLst>
                <a:gd name="textAreaLeft" fmla="*/ 0 w 183960"/>
                <a:gd name="textAreaRight" fmla="*/ 66240 w 183960"/>
                <a:gd name="textAreaTop" fmla="*/ 15840 h 608040"/>
                <a:gd name="textAreaBottom" fmla="*/ 592200 h 60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Point Mut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3160" y="18284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ickle Cell disease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s the result of one nucleotide substitu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emoglobin gene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71" name="Picture 2" descr="http://www.defiers.com/sc.jpg"/>
          <p:cNvPicPr/>
          <p:nvPr/>
        </p:nvPicPr>
        <p:blipFill>
          <a:blip r:embed="rId1"/>
          <a:stretch/>
        </p:blipFill>
        <p:spPr>
          <a:xfrm>
            <a:off x="4800600" y="2057400"/>
            <a:ext cx="32860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Frameshift Mut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9120" y="1905120"/>
            <a:ext cx="54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Inserting or deleting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ne or more nucleotid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anges the “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eading fra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” like changing a sentence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rotein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built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incorrectly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Frameshift Mut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905120"/>
            <a:ext cx="6095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Original: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1100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The fat cat ate the wee rat</a:t>
            </a: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Frame Shift (“a” added):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e fat c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 tat eth ewe era 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Amino Acid Sequence Changed-Deletion 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0" y="2077920"/>
            <a:ext cx="49528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omic Sans MS"/>
              </a:rPr>
              <a:t>Normal ge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TCTCCTCACGC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GAGGAGUGCGGU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9933"/>
                </a:solidFill>
                <a:latin typeface="Comic Sans MS"/>
              </a:rPr>
              <a:t>Cod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o-Glu-Glu-Cys-G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6600"/>
                </a:solidFill>
                <a:latin typeface="Comic Sans MS"/>
              </a:rPr>
              <a:t>Amino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4952880" y="1981080"/>
            <a:ext cx="40388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T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_C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TCACGC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GG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AGUGCGGU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Gly-Ser-Ala-V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nimation of gene mutations"/>
          <p:cNvPicPr/>
          <p:nvPr/>
        </p:nvPicPr>
        <p:blipFill>
          <a:blip r:embed="rId1"/>
          <a:stretch/>
        </p:blipFill>
        <p:spPr>
          <a:xfrm>
            <a:off x="844560" y="2286000"/>
            <a:ext cx="7054920" cy="19051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Gene Mutation Anim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23623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Comic Sans MS"/>
              </a:rPr>
              <a:t>FYI </a:t>
            </a:r>
            <a:endParaRPr b="0" lang="en-US" sz="80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://www.emc.maricopa.edu/faculty/farabee/BIOBK/Human_46,XY.gif"/>
          <p:cNvPicPr/>
          <p:nvPr/>
        </p:nvPicPr>
        <p:blipFill>
          <a:blip r:embed="rId1"/>
          <a:stretch/>
        </p:blipFill>
        <p:spPr>
          <a:xfrm>
            <a:off x="762120" y="1104840"/>
            <a:ext cx="8076960" cy="5219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Normal Male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4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1928-D39F-4A07-B500-7731D74F7D9E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858000" y="6324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n = 4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Are Mutations Helpful or Harmful?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5181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ome type of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skin cancers and leukemia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result from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somatic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mutation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ome mutations may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improv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 organism’s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survival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(beneficial)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Normal Female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465B-9367-4EDC-A220-F0EE46583E09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2" descr="http://www.biology.iupui.edu/biocourses/N100/images/nmlfemale.gif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6934320" y="6248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n = 4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ttp://k-12.pisd.edu/currInst/science/Genetic/karyo-tri21-r-m-gray.gif"/>
          <p:cNvPicPr/>
          <p:nvPr/>
        </p:nvPicPr>
        <p:blipFill>
          <a:blip r:embed="rId1"/>
          <a:stretch/>
        </p:blipFill>
        <p:spPr>
          <a:xfrm>
            <a:off x="838080" y="1295280"/>
            <a:ext cx="7925040" cy="5029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Male, Trisomy 21 (Down’s)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F6D6-1AF6-4502-8DAA-96F481C569B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6934320" y="6248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n = 4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Female Down’s Syndrome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E3FD-7D32-4916-B908-344C2AAE8D4D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2" descr="http://www.biologycorner.com/resources/downs.gif"/>
          <p:cNvPicPr/>
          <p:nvPr/>
        </p:nvPicPr>
        <p:blipFill>
          <a:blip r:embed="rId1"/>
          <a:stretch/>
        </p:blipFill>
        <p:spPr>
          <a:xfrm>
            <a:off x="563400" y="1447920"/>
            <a:ext cx="8352000" cy="51051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7010280" y="6248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n = 4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What Causes Mutation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62120" y="1600200"/>
            <a:ext cx="8007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There are two ways in which DNA can become mutate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tations can be inherited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arent to chi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tations can be acquir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nvironmental dam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istakes when DNA is copi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57909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Types of Mutations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Chromosome Mutation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 Involve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hanging the structur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f a chromos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oss or gai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f part of a chromos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5" descr="chromosome"/>
          <p:cNvPicPr/>
          <p:nvPr/>
        </p:nvPicPr>
        <p:blipFill>
          <a:blip r:embed="rId1"/>
          <a:srcRect l="0" t="0" r="31044" b="0"/>
          <a:stretch/>
        </p:blipFill>
        <p:spPr>
          <a:xfrm>
            <a:off x="4267080" y="1600200"/>
            <a:ext cx="190512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Chromosome Mutation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ve types exist: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Dele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Inver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ransloc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ndisjun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Duplic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Dele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ue to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breakage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iec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of a chromosome i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9" name="Picture 5" descr="chromosomaldeletion"/>
          <p:cNvPicPr/>
          <p:nvPr/>
        </p:nvPicPr>
        <p:blipFill>
          <a:blip r:embed="rId1"/>
          <a:srcRect l="0" t="0" r="0" b="8356"/>
          <a:stretch/>
        </p:blipFill>
        <p:spPr>
          <a:xfrm>
            <a:off x="609480" y="3657600"/>
            <a:ext cx="51055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Invers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5791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romosome segment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breaks off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gment flips arou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backward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gment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eattach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2" name="Picture 5" descr="inversion"/>
          <p:cNvPicPr/>
          <p:nvPr/>
        </p:nvPicPr>
        <p:blipFill>
          <a:blip r:embed="rId1"/>
          <a:srcRect l="0" t="8729" r="0" b="50006"/>
          <a:stretch/>
        </p:blipFill>
        <p:spPr>
          <a:xfrm>
            <a:off x="533520" y="4287960"/>
            <a:ext cx="57150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5:56:20Z</dcterms:created>
  <dc:creator>Cheryl Massengale</dc:creator>
  <dc:description/>
  <dc:language>en-US</dc:language>
  <cp:lastModifiedBy>John AJ O'Connor</cp:lastModifiedBy>
  <dcterms:modified xsi:type="dcterms:W3CDTF">2012-01-12T01:40:27Z</dcterms:modified>
  <cp:revision>38</cp:revision>
  <dc:subject/>
  <dc:title>Mutations</dc:title>
</cp:coreProperties>
</file>